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AB9A-D5CC-4C26-9610-FB281922F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9840" y="506052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9B24-B6DE-482C-9324-5F1B813A8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552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9840" y="506052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5520" y="506052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8E65-FFA3-4954-976A-218D15611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440" y="3789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3789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9840" y="506052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440" y="506052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506052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D978-45DC-42D7-8CCF-02BC11E33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9840" y="378936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5AFA-8B27-4BD4-9161-5C1F69A98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6B93-D019-42DC-9EBE-8FFDE7316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5520" y="378936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6BF4-15B7-41E8-A3B5-83C22F806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2F8D-65C0-41BA-A7C2-7DC47660C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9840" y="248580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1FDE-3E60-4E12-AD5B-8C4EC2193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5520" y="378936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9840" y="506052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BD78-D301-4384-8D9F-41CEF82F7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5520" y="506052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B0BB-751C-4E8C-980C-F10CCF5C7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984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3789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9840" y="506052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3CFF-CEDB-4E82-A480-EA4A82454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caf8"/>
            </a:gs>
            <a:gs pos="50000">
              <a:srgbClr val="ffffff"/>
            </a:gs>
            <a:gs pos="100000">
              <a:srgbClr val="98ca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24858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378936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349200" indent="-134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537120" indent="-1072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752040" indent="-107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59640" y="63813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5E6-1CA9-4B57-8D7B-A504351300D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ázek 10" descr="RC 4_5x5.png"/>
          <p:cNvPicPr/>
          <p:nvPr/>
        </p:nvPicPr>
        <p:blipFill>
          <a:blip r:embed="rId2"/>
          <a:stretch/>
        </p:blipFill>
        <p:spPr>
          <a:xfrm>
            <a:off x="8039160" y="369720"/>
            <a:ext cx="906480" cy="641520"/>
          </a:xfrm>
          <a:prstGeom prst="rect">
            <a:avLst/>
          </a:prstGeom>
          <a:ln w="0">
            <a:noFill/>
          </a:ln>
        </p:spPr>
      </p:pic>
      <p:pic>
        <p:nvPicPr>
          <p:cNvPr id="4" name="Obrázek 2" descr=""/>
          <p:cNvPicPr/>
          <p:nvPr/>
        </p:nvPicPr>
        <p:blipFill>
          <a:blip r:embed="rId3"/>
          <a:stretch/>
        </p:blipFill>
        <p:spPr>
          <a:xfrm>
            <a:off x="682560" y="195120"/>
            <a:ext cx="125568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ategie pro udržitelnost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oblasti chemických látek</a:t>
            </a:r>
            <a:br>
              <a:rPr sz="2800"/>
            </a:br>
            <a:br>
              <a:rPr sz="2800"/>
            </a:b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WEBINÁŘ SUSCHEM CZ</a:t>
            </a:r>
            <a:br>
              <a:rPr sz="1800"/>
            </a:b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8.12.2020 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941720"/>
            <a:ext cx="4495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Ing. Alena Krejčová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vaz chemického průmyslu Č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ilnější právní rámec EU pro řešení naléhavých problémů v oblasti životního prostředí a zdraví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99840" y="1267920"/>
            <a:ext cx="754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řestože přístup EU k nakládání s chemickými látkami je účinný,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ávající a nově se objevující obavy v oblasti zdraví a životního prostředí vyžadují posílení právního rámce.  Zejména nařízení REACH a CLP by měla být posílena jako základní předpisy pro nakládání s chemickými látkami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elká většina chemických látek v EU je  regulována  případ od případu a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ro konkrétní použití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jškodlivějších chemických látek je však třeba standardně volit obecný přístup k řízení rizik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zejména pro použití v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ýrobcích pro spotřebitele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jškodlivější chemické látky budou používány pouze pro použití,  která jsou pro společnost  zásadní - kritéria pro zásadní použití látek budou muset být řádně definována a  jednotně uplatňována v právních předpisech EU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rozšíří úroveň ochrany přiznanou spotřebitelům podle nařízení REACH na profesionální uživatele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stanoví další priority pro řešení expozice pracovníků nebezpečným látkám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navrhne stanovit  právně závaznou definici  endokrinních disruptorů na základě definice WHO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zajistí jejich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ákaz ve výrobcích pro spotřebitele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a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umožní  jejich použití pouze v aplikacích zásadních pro společnost.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Endokrinní disruptory budou zařazeny jako   kategorie SVHC látek podle  nařízení REACH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E0E5-7D19-4AE9-9970-33691B67589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ilnější právní rámec EU pro řešení naléhavých problémů v oblasti životního prostředí a zdraví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9840" y="1557360"/>
            <a:ext cx="754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Je třeba zohlednit účinek chemických směsí a obecněji jej začlenit do hodnocení chemických rizik.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Komise v této souvislosti posoudí, jak do nařízení REACH zařadit faktory pro posuzování směsí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roblémem v EU jsou taky potenciálně kontaminované lokality, jejich odhadovaný počet je 2,8 milionu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. Je třeba posílit stávající regulační a politický rámec.    Komise navrhne v nařízení CLP  nové třídy nebezpečnosti a kritéria s cílem  řešit toxicitu pro životní prostředí, perzistenci, mobilitu a bioakumulaci, zařadí endokrinní disruptory, perzistentní, mobilní a toxické látky a vysoce perzistentní a velmi mobilní látky jako kategorie SVHC látek podle nařízení REACH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akáže veškeré per- a polyfluoralkylované látky (PFAS) jako skupinu v hasicích pěnách i v jiných použitích a  umožní pouze jejich použití zásadní pro společnost.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Bude se jimi zabývat  v rámci dalších  právních předpisů, podpoří výzkum a vývoj  inovativních  metod pro nápravu kontaminace látkami PFAS v životním prostředí a ve výrobcích a náhrad PFAS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B473-36E5-413C-BC71-9A8242C13DE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jednodušení a konsolidace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právního rámce </a:t>
            </a:r>
            <a:br>
              <a:rPr sz="2400"/>
            </a:b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99840" y="112536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Regulační rámec EU pro posuzování nebezpečnosti a rizik a nakládání s chemickými látkami je komplexní a složitý,  přináší  zamýšlené výsledky a splňuje daný účel. Řada značně slabých míst však brání plnému využití jeho potenciálu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líčovým cílem Strategie je zajistit zjednodušení tohoto rámce, jakož i konsolidaci a plné provedení pravidel EU týkajících se chemických látek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bude usilovat o zjednodušení a větší transparentnost procesů posuzování nebezpečnosti, aby snížila zátěž zúčastněných stran a urychlila proces rozhodování, který by měl rovněž být konzistentnější a předvídatelnější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ajistí realizaci pravidla  „jedna látka, jedno posouzení“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aby  zahájení a stanovení priorit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hodnocení bezpečnosti bylo  prováděno koordinovaně, transparentně a co nejvíce  synchronizovaně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oskytne aktuální přehled všech plánovaných a probíhajících iniciativ týkajících se chemických látek ze strany orgánů napříč právními předpisy,  zřídí v této věci odbornou pracovní skupinu ČS,  útvarů Komise a agentur EU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 navrhne přerozdělení technické a vědecké práce  prováděné v rámci příslušných právních předpisů evropským agenturám, a to včetně práce příslušných výborů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554-966B-4918-A934-8540CCE4DFB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jednodušení a konsolidace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ávního rámce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99840" y="1196640"/>
            <a:ext cx="754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reformuje postupy povolování a omezování podle nařízení REACH.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Komis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vytvoří společnou otevřenou datovou platformu k chemickým látkám a bude  pomocí centralizovaného a spravovaného úložiště EU podporovat opakované používání a harmonizaci limitních hodnot látek pro lidské zdraví a životní prostředí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ajistí dostupnost příslušných akademických údajů pro posuzování bezpečnosti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zjednoduší tok údajů o  látkách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mezi vnitrostátními orgány a orgány EU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Téměř 30 % varování o nebezpečných výrobcích na trhu spojeno s riziky spojenými s chemickými  látkami, téměř 90 % těchto výrobků pochází z dovozu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problémem je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nline prodej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ouze  třetina registračních dokumentací podle  REACH je v souladu s požadavky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Je nutné  zintenzivnit provádění a prosazování právních předpisů k chemickým látkám  v  EU. Členské státy musí zvýšit kapacitu svých kontrolních  orgánů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osílí zásady „zákaz uvádění na trh bez údajů“ a „znečišťovatel platí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“ a  navrhne, aby  v příslušných případech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mohla  provádět audity dodržování a prosazování právních předpisů k chemickým látkám  v členských státech.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0D1-5D15-4810-8EE4-B84EB5F2BB2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Komplexní znalostní základna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o chemických látkách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9840" y="1267920"/>
            <a:ext cx="754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rgány EU musí  získat ještě řadu poznatků o  vlastnostech převážné většiny chemických látek, včetně polymerů a chemických látek vyráběných v malém množství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stále nemá  komplexní informace o všech látkách uváděných na trh a o jejich celkové environmentální stopě, včetně jejich dopadu na klima.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Informace požadované pro látky v malých a středních tonážích podle nařízení REACH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umožňují plně identifikovat látky s kritickými nebezpečnými vlastnostmi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 předloží návrh na registraci polymerů vzbuzujících obavy  podle nařízení REACH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posoudí,  jak  podle nařízení REACH nejlép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avést požadavky na informace o celkové environmentální stopě chemických látek, včetně emisí skleníkových plynů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mění požadavky nařízení REACH na informace s cílem umožnit účinnou identifikaci látek s kritickými nebezpečnými vlastnostmi a identifikovat  všechny karcinogenní látky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yráběné nebo dovážené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bez ohledu na jejich objem. 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76D-5135-43D7-BC6B-FB94B17463E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Komplexní znalostní základna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o chemických látkách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9840" y="1557360"/>
            <a:ext cx="754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bude nadále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e spolupráci se členskými státy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odporovat výzkum a biologický monitoring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Je třeba inovovat zkoušky bezpečnosti a posuzování chemických rizik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zřídí a zaktualizuje program výzkumu a inovací v oblasti chemických látek, posílí multidisciplinární výzkum a digitální inovace v oblasti pokročilých nástrojů, metod a modelů a kapacit pro analýzy údajů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oskytne finanční podporu kapacitám v oblasti biologického monitoringu lidí a životního prostředí a  vytvoří systém včasného varování a opatření EU pro chemické látky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20A-C6DD-45A3-B51D-664B081EDF8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Jít příkladem v oblasti řádného nakládání s chemickými látkami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v celosvětovém měřítku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99840" y="126828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 roce 2015 se mezinárodní společenství znovu zavázalo k dosažení cíle celosvětového řádného nakládání s chemickými látkami do roku 2020, tento závazek však nebyl splněn. Evropská unie je schopna – a i povinna – stát v čele  prosazování a podpoře vysokých standardů ve světě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Byla již zavedena široká škála mezinárodních, regionálních a vnitrostátních nástrojů souvisejících s řádným nakládáním s chemickými látkami a odpady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globální správa je však i nadále extrémně roztříštěná a země mají odlišné standardy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bnovený strategický přístup k mezinárodnímu nakládání s chemickými látkami je zásadní mnohostrannou dohodou, která umožní řešit řádné nakládání s chemickými látkami během jejich celého životního cykl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54D1-8543-4635-B138-B6BFBB64B67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57596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Jít příkladem v oblasti řádného nakládání s chemickými látkami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v celosvětovém měřítku </a:t>
            </a:r>
            <a:br>
              <a:rPr sz="4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99840" y="1557360"/>
            <a:ext cx="754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zintenzivní svou mezinárodní podporu v zájmu splnění cílů Agendy 2030 v oblasti řádného nakládání s chemickými látkami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 bude hrát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edoucí úlohu a prosazovat provádění stávajících mezinárodních nástrojů i standardů EU v celosvětovém měřítku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bude usilovat o přijetí globálních strategických cílů a konkrétních úkolů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ro řádné nakládání s chemickými látkami a odpady po roce 202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 bude podporovat provádění systému GHS OSN,  navrhne některé změny  v tomto systému, podpoří rozvoj společných standardů a inovativních nástrojů pro posuzování rizik na mezinárodní úrovni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zejména s OECD.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bude podporovat rozvojové země  sdílením  znalostní základny EU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zajistí, že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bezpečné chemické látky zakázané v EU nebyly vyráběny na vývoz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3EF8-5DC8-4F90-A854-61CDD1628F2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ávě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99840" y="1557360"/>
            <a:ext cx="754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 poslední části Závěry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se uvádí, ž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rategie doplňuje evropskou průmyslovou strategii, evropský plán na podporu oživení,  Akční plán pro oběhové hospodářství a další strategie a iniciativy EGD.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Komise uvádí, ž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a základě veřejných konzultací budou co nejcíleněji připraveny  právní návrhy, včetně revize nařízení REACH, zaměřené pouze na dosažení cílů této Strategie, které budou podrobeny komplexnímu posouzení dopadů včetně dopadu na MSP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551-36DC-40A6-85CC-243FFB90F98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ktivity SCHP Č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99840" y="1557360"/>
            <a:ext cx="754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anovisko Svazu chemického průmyslu ČR k návrh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Strategie            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z 22.7.2020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Aktualizované stanovisko Svazu chemického průmyslu ČR ke Strategii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z 3.11.20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anoviska byla předána příslušným resortům a  zveřejněna  na webu SCHP ČR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rategie byla na programu videokonference SCHP ČR „Zelená dohoda pro Evropu - realizace v chemickém sektoru ČR“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dne 22.10.20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Diskuze o Strategii na jednáních Pracovní skupiny EGD a Výboru pro management chemických láte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osuzování a stanoviska ke konkrétním legislativním návrhům obsaženým ve Strategii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C6F-B695-4523-B1B4-E4147E440C9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trategie pro udržitelnost v oblasti chemických látek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99840" y="1557360"/>
            <a:ext cx="754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Sdělení Komis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rategie pro udržitelnost v oblasti chemických látek      K životnímu prostředí bez toxických látek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 COM(2020) 667 final zveřejnila Komise  spolu s přílohou - Akčním plánem  dne  14.10.2020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rategie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je jedním z klíčových opatření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elené dohody pro Evrop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a obsahuj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izi a přehled legislativních i nelegislativních opatření, které Komise navrhuje k dosažení udržitelného klimaticky neutrálního a oběhového hospodářství EU do roku 2050 a lepší ochrany lidského zdraví a životního prostředí  k přechodu k životnímu prostředí bez toxických látek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Akční plán  obsahuje 56 opatření, která mají být zavedena v letech 2021-2024.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ětšina z těchto opatření jsou legislativní opatření  a týkají se změn nařízení REACH, CLP, nařízení o materiálech určených pro styk s potravinami, nařízení o kosmetických přípravcích, nařízení o biocidech, nařízení o přípravcích na ochranu rostlin, směrnice o průmyslových emisích, směrnice o obecné bezpečnosti výrobků  a dalších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9E29-EF14-44E0-AFDD-F21B37B8DF8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0920" y="316080"/>
            <a:ext cx="518508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Děkuji za pozornos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10920" y="2133360"/>
            <a:ext cx="4681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ntakt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Ing. Alena Krejčová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vaz chemického průmyslu ČR, z.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Tel.: +420 739 463 43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5C93-4EC3-41F3-A7D7-71AAC91A2EE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Udržitelné chemické látky pro zelenou a digitální transformaci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99840" y="1267920"/>
            <a:ext cx="754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vní část Strategie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: Udržitelné chemické látky pro zelenou a digitální transformaci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Chemické látky jsou  stavebními kameny nízkouhlíkových technologií, materiálů a výrobků s nulovým znečištěním a účinně využívajících energii a zdroje. Vyšší investice a vyšší inovační kapacita chemického průmyslu pro poskytování bezpečných a udržitelných chemických látek budou mít zásadní význam pro nabídku nových řešení a podporu zelené i digitální transformace  hospodářství EU a jejich obyvatel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Chemické znečištění prohlubuje krizi planety v oblastech, jako jsou změna klimatu, degradace ekosystémů a ztráta biologické rozmanitosti.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ové chemické látky a materiály musí být ze své podstaty bezpečné a udržitelné, od výroby až po konec životnosti, přičemž musí být zavedeny nové výrobní postupy a technologie, které umožní přechod chemického průmyslu k neutralitě z hlediska klimatu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Je nutné vystupňovat inovace  pro vývoj a používání udržitelných chemických látek k umožnění zelené a digitální transformace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8F6-5C8C-41FC-AC7B-2EE9E01585A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Udržitelné chemické látky pro zelenou a digitální transformaci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99840" y="1196640"/>
            <a:ext cx="754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Hodnotové řetězce a stávající politika EU v oblasti chemických látek se musí posunout a rychleji a účinněji reagovat na problémy spojené s nebezpečnými chemickými látkami, 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zajistit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bezpečnější a udržitelnější používání všech chemických látek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a prosazovat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minimalizaci a náhradu  chemických  látek vzbuzujících obavy.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 Strategie tyto látky definuje jako látky s chronickým účinkem na lidské zdraví a životní prostředí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andemie COVID-19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ukázala,  ž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ýrobní i dodavatelské řetězce některých důležitých chemických  látek v EU jsou značně složité  a globalizované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např.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látek  k výrobě léčivých přípravků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musí posílit svou otevřenou strategickou autonomii pomocí odolných hodnotových řetězců a diverzifikovat udržitelné získávání u  látek, které mají zásadní  využití pro naše zdraví a pro dosažení oběhového hospodářství neutrálního z hlediska změny klimat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řipraví jednání kulatého stolu na vysoké úrovni se zástupci průmyslu, vědy a občanské společnosti,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která by se  měla zaměřit zejména na to,  jak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zúčelnit a zefektivnit působení právních předpisů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k  chemickým  látkám a jak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odpořit rozvoj a zavádění inovativních bezpečných a udržitelných chemických látek napříč odvětvími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D1B8-D976-4491-B758-83A7E033B1C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5759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K životnímu prostředí bez toxických látek: nová dlouhodobá vize politiky EU v oblasti chemických látek </a:t>
            </a:r>
            <a:br>
              <a:rPr sz="2400"/>
            </a:b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 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9840" y="119664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ruhá  část Strategie: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 životnímu prostředí bez toxických látek: nová dlouhodobá vize politiky EU v oblasti chemických látek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 souladu se EGD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rategie usiluje  o vytvoření prostředí bez toxických látek,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 němž s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chemické látky vyrábějí a používají způsobem, který maximalizuje jejich přínos pro společnost, včetně dosahování zelené a digitální transformace, a zároveň brání poškozování planety i současné a budoucích generací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Předpokládá, ž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růmysl EU bude celosvětově konkurenceschopným aktérem v oblasti výroby a používání bezpečných a udržitelných chemických látek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Strategi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avrhuje jasný plán a harmonogram transformace průmyslu s cílem přilákat investice do bezpečných a udržitelných výrobků a výrobních metod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Strategie obsahuj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hierarchii bez toxických látek jako novou hierarchii v oblasti nakládání s chemickými látkami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ezpečné a udržitelné chemické látky; </a:t>
            </a:r>
            <a:r>
              <a:rPr b="0" lang="cs-CZ" sz="1200" spc="-1" strike="noStrike">
                <a:solidFill>
                  <a:srgbClr val="000066"/>
                </a:solidFill>
                <a:latin typeface="Arial"/>
              </a:rPr>
              <a:t>zamezení používání látek vzbuzujících obavy bez zásadního důvodu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inimalizovat a kontrolovat;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cs-CZ" sz="1200" spc="-1" strike="noStrike">
                <a:solidFill>
                  <a:srgbClr val="000066"/>
                </a:solidFill>
                <a:latin typeface="Arial"/>
              </a:rPr>
              <a:t>xpozici lidí a ŽP látkám nebezpečným pro zdraví a Ž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dstraňovat a sanovat.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cs-CZ" sz="1200" spc="-1" strike="noStrike">
                <a:solidFill>
                  <a:srgbClr val="000066"/>
                </a:solidFill>
                <a:latin typeface="Arial"/>
              </a:rPr>
              <a:t>stranit látky vzbuzující obavy v odpadu a druhotných surovinác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8B4-8F86-4D81-9D55-0DC529AB180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K životnímu prostředí bez toxických látek: nová dlouhodobá vize politiky EU v oblasti chemických látek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99840" y="119664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Strategie vytyčuje způsob provádění této vize opatřeními v 5 oblastech: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Inovace pro bezpečné a udržitelné chemické látky v EU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Silnější právní rámec EU pro řešení naléhavých problémů v oblasti životního prostředí a zdraví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Zjednodušení a konsolidace právního rámce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Komplexní znalostní základna o chemických látkách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Jít příkladem v oblasti řádného nakládání s chemickými látkami         v celosvětovém  měřítk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4D32-7E3D-4CD4-8DEE-D750233BB85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Inovace pro bezpečné a udržitelné chemické látky v E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9840" y="1211400"/>
            <a:ext cx="75438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řechod na chemické látky, které jsou ze své podstaty bezpečné a udržitelné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je nejen společensky naléhavým krokem, ale také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elkou hospodářskou příležitostí a  klíčovou složkou oživení EU po krizi COVID-19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ro chemický průmysl EU se jedná o příležitost k opětovnému získání konkurenceschopnosti dalším vývojem těchto látek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 nalezení udržitelných řešení napříč odvětvími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zejména pokud jde o stavební materiály, textilie, nízkouhlíkovou mobilitu, baterie, větrné turbíny a obnovitelné zdroje energie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Komise ohledně fondu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„Next Generation EU“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uvádí, že členské státy investují do projektů, které usnadňují zelenou a digitální transformaci průmyslu EU, též v chemickém průmyslu, a zvyšují konkurenceschopnost udržitelného průmyslu EU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EU bude podporovat vývoj ze své podstaty bezpečných a udržitelných chemických látek.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Komise pro ně vypracuje kritéria EU a celounijní   síť pro tuto koncepci včetně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finanční podpory  v rámci programu Horizont Evropa, politiky soudržnosti, programu LIFE a dalších nástrojů EU a partnerství veřejného a soukromého sektoru.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8C3-650C-4297-AF8D-0F667065D84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Inovace pro bezpečné a udržitelné chemické látky v E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 čistém oběhovém hospodářství je nezbytné podpořit výrobu a využívání druhotných surovin a zajistit, aby prvotní i druhotné materiály i výrobky byly vždy bezpečné.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roblémem je  zejména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dostatek  informací o chemických látkách ve výrobku. Je třeba minimalizovat obsah látek vzbuzujících obavy ve výrobcích a v recyklovaných materiálech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Jsou nutné investice do inovativních technologií k řešení starých látek v odpadových tocích. 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Např.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chemická recyklace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by rovněž mohla  hrát roli, ale pouze při zajištění  celkově pozitivní environmentální a klimatické  výkonnost z hlediska celého životního cyklu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Komise zaved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říslušné požadavky pro minimalizaci  výskytu  látek vzbuzujících obavy ve výrobcích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 vypracuje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metodiky pro posuzování chemického rizika, které zohlední celý životní cyklus látek, materiálů a výrobků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elená a digitální transformace stále vyžaduje značné investice. Nové a čistší průmyslové procesy a technologie by pomohly nejen snížit environmentální stopu výroby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chemických látek, ale také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nížit náklady, zlepšit připravenost trhu a vytvořit nové trhy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66E-5A19-4297-8623-B0313F7CDF3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Inovace pro bezpečné a udržitelné chemické látky v E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9840" y="119664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Musí být upřednostněna energetická účinnost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rozhodující úlohu  z hlediska udržitelnosti zdrojů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 by mohla hrát paliva, jako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bnovitelný vodík a udržitelně vyráběný biometan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omocí svých finančních nástrojů a výzkumných a inovačních programů  podpoří  výzkum a vývoj pokročilých materiálů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pro aplikace v energetice, stavebnictví, mobilitě,  zdravotnictví, zemědělství a elektronice s cílem uskutečnit zelenou a digitální transformaci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odpoří výzkum, vývoj a zavádění nízkouhlíkových chemických a materiálových výrobních procesů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s malým  dopadem na životní prostředí, výzkum a vývoj inovativních obchodních modelů, zvyšování kvalifikace, přístup k rizikovému financování a další. Tento vývoj bude podpořen taxonomií udržitelného financování EU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dolnost EU vůči narušení dodávek některých chemických látek v zásadních  aplikacích je klíčová  např. pro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dostupnost léčivých přípravků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ale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i pro  technologie pro klimatickou neutralitu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,  pro oběhovost čistých materiálů a pro cíle nulového znečištění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mise proto  určí strategické závislosti a navrhne opatření k jejich snížení,  určí strategické hodnotové řetězce,  podpoří meziregionální spolupráci </a:t>
            </a:r>
            <a:r>
              <a:rPr b="0" lang="cs-CZ" sz="1600" spc="-1" strike="noStrike">
                <a:solidFill>
                  <a:srgbClr val="0000ff"/>
                </a:solidFill>
                <a:latin typeface="Arial"/>
              </a:rPr>
              <a:t>v rámci udržitelných hodnotových řetězců a 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odolnost EU v oblasti dodávek a udržitelnost chemických látek v zásadních aplikacích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395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DB4-AFB5-49D0-AA0A-67BE5E9E377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dislav Novak</dc:creator>
  <dc:description/>
  <dc:language>en-US</dc:language>
  <cp:lastModifiedBy>Alena Krejcova</cp:lastModifiedBy>
  <cp:lastPrinted>2020-01-16T15:34:36Z</cp:lastPrinted>
  <dcterms:modified xsi:type="dcterms:W3CDTF">2020-12-07T11:29:46Z</dcterms:modified>
  <cp:revision>331</cp:revision>
  <dc:subject/>
  <dc:title>Prezentace aplikace PowerPoint</dc:title>
</cp:coreProperties>
</file>