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3003213" cy="97520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Verdana Bold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cs-CZ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DF82424-957D-49D9-B046-395BF412C64F}" type="slidenum">
              <a:rPr b="0" lang="cs-CZ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7A8DAA-6828-4364-B97D-EBE24E98B222}" type="slidenum">
              <a:rPr b="0" lang="cs-CZ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E270473-0149-4CD5-B37D-11C7E0A2661E}" type="slidenum">
              <a:rPr b="0" lang="cs-CZ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C7A76A-28E3-4B7E-8419-F163C2A54292}" type="slidenum">
              <a:rPr b="0" lang="cs-CZ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7331F-CFFB-4D66-BDDB-1FD8B825BCC5}" type="slidenum">
              <a:rPr b="0" lang="cs-CZ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871600"/>
            <a:ext cx="104648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8716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8716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871600"/>
            <a:ext cx="3369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8716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871600"/>
            <a:ext cx="10464840" cy="76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marL="133560" indent="-133560" algn="ctr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89440" indent="-111240" algn="ctr"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445680" indent="-88920" algn="ctr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623880" indent="-88920" algn="ctr"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802080" indent="-88920" algn="ct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802080" indent="-88920" algn="ct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802080" indent="-88920" algn="ct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Verdan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1066788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Sdělení EK: Strategie EU pro udržitelnost chemických látek –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K životnímu prostředí bez toxických látek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Pozice ČR</a:t>
            </a:r>
            <a:endParaRPr b="0" lang="en-US" sz="2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219320" y="5257800"/>
            <a:ext cx="10464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tjana Kolesnikov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dbor environmentálních rizik a ekologických ško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8.Prosince 202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6800" y="753840"/>
            <a:ext cx="11055240" cy="75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Verdana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66760" y="1727280"/>
            <a:ext cx="1277604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27160" y="1512720"/>
            <a:ext cx="115966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ické priorit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popis problematik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zice ČR k jednotlivým prioritá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28760" y="687240"/>
            <a:ext cx="8172720" cy="7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ematické priority</a:t>
            </a:r>
            <a:endParaRPr b="0" lang="en-US" sz="2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2" name="Rectangle 3"/>
          <p:cNvSpPr/>
          <p:nvPr/>
        </p:nvSpPr>
        <p:spPr>
          <a:xfrm flipV="1">
            <a:off x="0" y="8081640"/>
            <a:ext cx="127760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5920" y="1136160"/>
            <a:ext cx="11596680" cy="709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inovace pro bezpečné a udržitelné chemické látky v EU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zajištění bezpečnosti a udržitelnosti již ve fázi návrhu výrobků, vytvoření netoxických materiálových cyklů, inovace v průmyslové výrobě chemických látek (ekologizace, digitalizace), posílení otevřené autonomie E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silnější právní rámec EU pro řešení naléhavých environmentálních a zdravotních obav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- ochrana před nejškodlivějšími chemickými látkami, úprava týkající se endokrinních disruptorů a směsí chemikálií, řešení chemického znečištění v přírodním prostředí, úprava týkající se per- a polyfluoralkylových látek (PFA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zjednodušení a konsolidace právního rámce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- jedno posouzení pro jednu látku, nulová tolerance v případě nedodržování pravid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vytvoření komplexní základny znalostí o chemických látkách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- zlepšení dostupnosti údajů prostřednictvím informačních požadavků, lepší propojení vědy a politik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vytvoření globálního systému řádného řízení chemických látek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- posílení mezinárodních standardů, podpora standardů v oblasti bezpečnosti a udržitelnosti ve třetích zemích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379080"/>
            <a:ext cx="10464840" cy="6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Pozice ČR</a:t>
            </a:r>
            <a:endParaRPr b="0" lang="en-US" sz="2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69720" y="1003320"/>
            <a:ext cx="10464840" cy="68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 tematické prioritě „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ovace pro bezpečné a udržitelné chemické látky v EU“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čekáváme, že EK vypracuje kritéria EU pro ze své podstaty bezpečné a udržitelné chemické látky, tj. budou definována kritéria pro „bezpečné a udržitelné chemické látky již od návrhu“ a tato kritéria budou použita v členských státec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R vyzývá EK, aby pro veškeré připravované legislativní úpravy zpracovala podrobné, vzájemně provázané dopadové studie a omezila se na revize pouze v těch oblastech, které byly identifikovány jako problematické v rámci pravidelných hodnocení právních předpisů 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9360" y="433080"/>
            <a:ext cx="11055600" cy="59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Pozice ČR</a:t>
            </a:r>
            <a:endParaRPr b="0" lang="en-US" sz="2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7153200"/>
            <a:ext cx="12776040" cy="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4520" y="1025280"/>
            <a:ext cx="11464920" cy="707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tematické prioritě „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ilnější právní rámec EU pro řešení naléhavých environmentálních a zdravotních obav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mítáme zásadní změny nařízení REACH a CLP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měny by se měly omezit na ty případy, které byly v minulých letech identifikovány při přezkumu nařízení REACH a dalších předpisů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 všech těchto návrhů se musí postupovat podle zásad „Better regulation“, kdy dojde ke zohlednění stanovisek zainteresovaných str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179360" y="433440"/>
            <a:ext cx="11055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Pozice Č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Obdélník 3"/>
          <p:cNvSpPr/>
          <p:nvPr/>
        </p:nvSpPr>
        <p:spPr>
          <a:xfrm>
            <a:off x="692280" y="1258920"/>
            <a:ext cx="1190916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Zákaz PF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"/>
              </a:rPr>
              <a:t>V otázce navrhovaného zákazu PFAS ČR bude postupovat v souladu s nařízením REACH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"/>
              </a:rPr>
              <a:t>Rozsah omezení či zákazu výroby/použití látku nebo skupinu látek musí vyplynout až z konkrétního legislativního návrhu, který má nastaveny mechanismy pro hodnocení rizik těchto látek pro zdraví a životní prostředí a pro vyhodnocování socioekonomických dopadů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"/>
              </a:rPr>
              <a:t>Uvědomujeme rizikovost PFAS a potřebu omezení jejich použití pouze na nezbytné případy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"/>
              </a:rPr>
              <a:t>ČR preferuje jednotlivá posouzení použití PFAS před plošným zákazem.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179360" y="433440"/>
            <a:ext cx="11055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Pozice Č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Obdélník 2"/>
          <p:cNvSpPr/>
          <p:nvPr/>
        </p:nvSpPr>
        <p:spPr>
          <a:xfrm>
            <a:off x="5308560" y="0"/>
            <a:ext cx="619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Obdélník 3"/>
          <p:cNvSpPr/>
          <p:nvPr/>
        </p:nvSpPr>
        <p:spPr>
          <a:xfrm>
            <a:off x="1717560" y="952560"/>
            <a:ext cx="1030284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tematické prioritě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„zjednodušení a konsolidace právního rámce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 Bold"/>
              </a:rPr>
              <a:t>ČR považuje za důležitou maximální harmonizaci agendy chemických látek, která povede k odstranění duplikací činnosti jednotlivých agentur a dosažení jejich vzájemného souladu na horizontální úrovni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 Bold"/>
              </a:rPr>
              <a:t>ČR plně podporuje princip – jedna látka jedno posouzení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 Bold"/>
              </a:rPr>
              <a:t>Vítáme návrh na reformu postupu povolování a omezování podle nařízení REACH, zejména z hlediska časové předvídatelnosti a legislativní jistoty všech zúčastněných stran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3"/>
          <p:cNvSpPr/>
          <p:nvPr/>
        </p:nvSpPr>
        <p:spPr>
          <a:xfrm>
            <a:off x="1316160" y="952560"/>
            <a:ext cx="965664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ill Sans"/>
              </a:rPr>
              <a:t>Pozice Č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"/>
              </a:rPr>
              <a:t>K tematické prioritě </a:t>
            </a: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„vytvoření globálního systému řádného řízení chemických látek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 Bold"/>
              </a:rPr>
              <a:t>ČR velmi vítá a podporuje zaměření Komise na nebezpečné chemické látky v dovážených výrobcích do EU a rovněž dostupnost informací o chemickém složení výrobků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 Bold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ill Sans"/>
              </a:rPr>
              <a:t>V oblasti regulace chemických látek podporujeme, aby EU zajistila plné prosazování pravidel týkajících se chemických látek na svém území i na svých hranicích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 Bold"/>
              </a:rPr>
              <a:t>Implementaci strategie ČR vnímá s ohledem na zachování globální konkurenceschopnosti evropského průmyslu současně s nejvyšší mírou ochrany životního prostředí a zdraví občanů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812880"/>
            <a:ext cx="12047400" cy="7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854440" y="2854440"/>
            <a:ext cx="7783560" cy="523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14440" y="812880"/>
            <a:ext cx="1071396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akt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tjana Kolesniko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atjana.kolesnikov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@mzp.c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cp:lastPrinted>2020-11-02T11:50:05Z</cp:lastPrinted>
  <dcterms:modified xsi:type="dcterms:W3CDTF">2020-12-08T09:00:22Z</dcterms:modified>
  <cp:revision>65</cp:revision>
  <dc:subject/>
  <dc:title>Snímek 1</dc:title>
</cp:coreProperties>
</file>